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6.png" ContentType="image/png"/>
  <Override PartName="/ppt/media/image14.png" ContentType="image/png"/>
  <Override PartName="/ppt/media/image24.wmf" ContentType="image/x-wmf"/>
  <Override PartName="/ppt/media/image21.gif" ContentType="image/gif"/>
  <Override PartName="/ppt/media/image19.wmf" ContentType="image/x-wmf"/>
  <Override PartName="/ppt/media/image22.png" ContentType="image/png"/>
  <Override PartName="/ppt/media/image17.gif" ContentType="image/gif"/>
  <Override PartName="/ppt/media/image16.wmf" ContentType="image/x-wmf"/>
  <Override PartName="/ppt/media/image1.gif" ContentType="image/gif"/>
  <Override PartName="/ppt/media/image27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6558-ADA0-458F-8503-9F2C80741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AD9C-928E-477A-AC2C-91F6507647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24A1-0DA8-4989-9237-945328FEF9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8AB-A03E-4B93-B75C-387791EB12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8359-8482-4D28-8BCA-CA7211F7B8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4712-E74F-4754-9B5C-83DF5D1D23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933-C5D4-4D00-A474-EFFF68698A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D767-0522-4154-80D9-F797CAD803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D986-2544-4E09-821D-C4F6F748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384-0730-415C-8396-0060D475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4538-0B78-4420-9DAF-D276E42F1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7D7-5087-4151-9160-295C1174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ED6A-3EB5-46F6-B349-7FFA76CE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06CD-C8F5-4D7F-94DF-E5E6CE01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663-5DA1-40C9-9FF2-7DD9480C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7978-E59E-4F87-833D-6C05F57F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8BF6-E804-4C2D-9BD1-DBB9EF99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9A86-B260-4F1C-B480-9893B5F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A419-12A0-40AA-8587-FAA06B3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EE8-82C5-4454-8D4E-BEE30E30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4C3E-71F4-4BE6-B962-E102C1FF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53D7-6891-4C01-A95A-5F9A64B0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7495-A888-40A0-9CD4-5A296A08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2905-31B6-48D4-891B-F40C5889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7375-4CD1-4904-9E7C-5BBB9212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37C-ACDC-40E4-857E-1EC73E66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F76F-509A-4188-BC3A-272B172D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7D5-CFB7-47C5-98ED-579AA777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EFA4-D364-4FE1-A728-EF752DF7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7C0-13F9-4C14-8359-9E10B612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16F-5DAC-46A0-8488-3DA116BD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A213-DE27-481E-A728-F53C0D09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53AD-4F30-43BF-A5E7-D2BB30DE44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0878-CD05-4A90-9A3C-4BFEC2BF71F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You Gotta Have Hear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Circulatory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rtery vs. Ve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7" name="Picture 3" descr="artery-vein"/>
          <p:cNvPicPr/>
          <p:nvPr/>
        </p:nvPicPr>
        <p:blipFill>
          <a:blip r:embed="rId1"/>
          <a:stretch/>
        </p:blipFill>
        <p:spPr>
          <a:xfrm>
            <a:off x="1066680" y="1295280"/>
            <a:ext cx="7162920" cy="5372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rterie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ries blood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ahoma"/>
              </a:rPr>
              <a:t>A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y from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ck-walled,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xygenated bloo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tion Pulmonary Art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d under great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ady pulsa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rterio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 smaller vessels, enter t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mosquito-artery-hit"/>
          <p:cNvPicPr/>
          <p:nvPr/>
        </p:nvPicPr>
        <p:blipFill>
          <a:blip r:embed="rId1"/>
          <a:stretch/>
        </p:blipFill>
        <p:spPr>
          <a:xfrm>
            <a:off x="2209680" y="152280"/>
            <a:ext cx="506124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pillar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est vess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one cell thi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utrients and gases diffuse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Veins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rries blood to hear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114440" y="1828800"/>
            <a:ext cx="5181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ries blood that contains waste and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43880" indent="-44784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ception pulmonary ve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ood not under much press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-5227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alv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prevent much gravity pu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nu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 larger than capilla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4" descr="valves%20in%20veins"/>
          <p:cNvPicPr/>
          <p:nvPr/>
        </p:nvPicPr>
        <p:blipFill>
          <a:blip r:embed="rId1"/>
          <a:stretch/>
        </p:blipFill>
        <p:spPr>
          <a:xfrm>
            <a:off x="457200" y="2171880"/>
            <a:ext cx="3606840" cy="460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aricose Vein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amaged Valves in Vei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3" descr="spider%20veins"/>
          <p:cNvPicPr/>
          <p:nvPr/>
        </p:nvPicPr>
        <p:blipFill>
          <a:blip r:embed="rId1"/>
          <a:stretch/>
        </p:blipFill>
        <p:spPr>
          <a:xfrm>
            <a:off x="1066680" y="1676520"/>
            <a:ext cx="7220160" cy="510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Bloo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dy contains 4-6 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sts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Blood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blood cells and platel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4" descr="blood"/>
          <p:cNvPicPr/>
          <p:nvPr/>
        </p:nvPicPr>
        <p:blipFill>
          <a:blip r:embed="rId1"/>
          <a:stretch/>
        </p:blipFill>
        <p:spPr>
          <a:xfrm>
            <a:off x="4724280" y="2057400"/>
            <a:ext cx="388620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1"/>
          <p:cNvSpPr/>
          <p:nvPr/>
        </p:nvSpPr>
        <p:spPr>
          <a:xfrm>
            <a:off x="2120760" y="1386000"/>
            <a:ext cx="4356360" cy="436716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Freeform 12"/>
          <p:cNvSpPr/>
          <p:nvPr/>
        </p:nvSpPr>
        <p:spPr>
          <a:xfrm>
            <a:off x="5830920" y="1468440"/>
            <a:ext cx="3206880" cy="404820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nga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lt Disney’s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emo the Magnific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ne 3 – The He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ene 4 – Lubb-Dub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Freeform 11"/>
          <p:cNvSpPr/>
          <p:nvPr/>
        </p:nvSpPr>
        <p:spPr>
          <a:xfrm>
            <a:off x="5830920" y="1468440"/>
            <a:ext cx="3206880" cy="4048200"/>
          </a:xfrm>
          <a:prstGeom prst="pie">
            <a:avLst/>
          </a:prstGeom>
          <a:solidFill>
            <a:srgbClr val="72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bio_ch37_4078"/>
          <p:cNvPicPr/>
          <p:nvPr/>
        </p:nvPicPr>
        <p:blipFill>
          <a:blip r:embed="rId1"/>
          <a:stretch/>
        </p:blipFill>
        <p:spPr>
          <a:xfrm>
            <a:off x="907920" y="1790640"/>
            <a:ext cx="6837480" cy="29178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431640" y="4859280"/>
            <a:ext cx="217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hole Blood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670880" y="411012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7658280" y="3589200"/>
            <a:ext cx="121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7238880" y="32338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7188120" y="2776680"/>
            <a:ext cx="121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3098880" y="4859280"/>
            <a:ext cx="26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mple Placed in Centrifu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426360" y="4859280"/>
            <a:ext cx="180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lood Sample That Has Been Centrifug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arts of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3" name="Picture 3" descr="blood"/>
          <p:cNvPicPr/>
          <p:nvPr/>
        </p:nvPicPr>
        <p:blipFill>
          <a:blip r:embed="rId1"/>
          <a:stretch/>
        </p:blipFill>
        <p:spPr>
          <a:xfrm>
            <a:off x="2057400" y="1219320"/>
            <a:ext cx="5037120" cy="55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Blood:  Fluid 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32004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Tiss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0%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% dissolved subst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733920" y="21333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quid Portion Carri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ood ce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rythrocytes (RBC - red blood cell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ucocytes (WBC - white blood cells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latelets (non cellular particl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e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zym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rmones – Endocrine Syst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trients - Digestive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ases - Respiratory Syste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organic sal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715000" cy="3952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xygen in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209680" y="1828800"/>
            <a:ext cx="2438640" cy="449568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globin, iron containing molec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sely picks up oxygen in the lu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es oxygen in areas low in oxygen (diffus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bon Dioxide in the Bloo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moglobin carri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l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a waste product of cellular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0%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bines with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rest travels to the lu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does blood contain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057040" y="2209320"/>
            <a:ext cx="5638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0%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5% Erythr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% Plasma with Subst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% Leukocytes + Platel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rythrocytes (RBC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029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ers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xy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bon Diox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k a 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tain hemoglob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k-sha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BC are produced in red bone marrow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b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umeru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emur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rnum, and other long b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ves for 120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ld RBC are destroyed in liver and spl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09009jwa"/>
          <p:cNvPicPr/>
          <p:nvPr/>
        </p:nvPicPr>
        <p:blipFill>
          <a:blip r:embed="rId1"/>
          <a:stretch/>
        </p:blipFill>
        <p:spPr>
          <a:xfrm>
            <a:off x="5334120" y="1828800"/>
            <a:ext cx="35812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ukocytes (WBC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320" y="20574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BC fight infe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tack foreign substa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abund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live for mont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60840" indent="-517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just a few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ral typ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contain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4" descr="figure11c"/>
          <p:cNvPicPr/>
          <p:nvPr/>
        </p:nvPicPr>
        <p:blipFill>
          <a:blip r:embed="rId1"/>
          <a:stretch/>
        </p:blipFill>
        <p:spPr>
          <a:xfrm>
            <a:off x="4038480" y="2143080"/>
            <a:ext cx="510552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tele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TELETS are for CLOTTING bl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l fra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ed in bone marr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 life span (1 wee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brin (sticky network of protein fib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 a web trapping blood ce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plo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xercise affect heart r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culatory System Re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 Your He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bio_ch37_4080"/>
          <p:cNvPicPr/>
          <p:nvPr/>
        </p:nvPicPr>
        <p:blipFill>
          <a:blip r:embed="rId1"/>
          <a:stretch/>
        </p:blipFill>
        <p:spPr>
          <a:xfrm>
            <a:off x="766800" y="1801800"/>
            <a:ext cx="7381800" cy="2162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533520" y="30492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lood Clo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22440" y="4033800"/>
            <a:ext cx="203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reak in Capillary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injur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530520" y="4033800"/>
            <a:ext cx="2152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umping of Platel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telets clump at the site and release thromboplastin. Thromboplastin converts prothrombin into thrombin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6388200" y="4033800"/>
            <a:ext cx="2127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ot 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ombin converts fibrinogen into fibrin, which causes a clot. The clot prevents further loss of blood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E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eart1"/>
          <p:cNvPicPr/>
          <p:nvPr/>
        </p:nvPicPr>
        <p:blipFill>
          <a:blip r:embed="rId1"/>
          <a:stretch/>
        </p:blipFill>
        <p:spPr>
          <a:xfrm>
            <a:off x="2819520" y="174600"/>
            <a:ext cx="4379760" cy="6683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3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Your Heart:  The Vital Pump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EST, the heart pumps about 5 QUARTS of blood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ring EXTREME EXERTION (exercise) it can pump 40 quarts a minu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4" descr="j0299873"/>
          <p:cNvPicPr/>
          <p:nvPr/>
        </p:nvPicPr>
        <p:blipFill>
          <a:blip r:embed="rId1"/>
          <a:stretch/>
        </p:blipFill>
        <p:spPr>
          <a:xfrm>
            <a:off x="5867280" y="2770200"/>
            <a:ext cx="2179800" cy="2487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eart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tructure and Func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s blood mov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rge organ composed o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iac muscl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h in mitochond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closed by a sa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ICARDIU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0283182"/>
          <p:cNvPicPr/>
          <p:nvPr/>
        </p:nvPicPr>
        <p:blipFill>
          <a:blip r:embed="rId2"/>
          <a:stretch/>
        </p:blipFill>
        <p:spPr>
          <a:xfrm>
            <a:off x="5486400" y="2743200"/>
            <a:ext cx="250524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80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bio_ch37_4074"/>
          <p:cNvPicPr/>
          <p:nvPr/>
        </p:nvPicPr>
        <p:blipFill>
          <a:blip r:embed="rId1"/>
          <a:stretch/>
        </p:blipFill>
        <p:spPr>
          <a:xfrm>
            <a:off x="2470320" y="1047600"/>
            <a:ext cx="5713200" cy="46292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228600" y="231840"/>
            <a:ext cx="8344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Structures of 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083040" y="5608800"/>
            <a:ext cx="14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ght Ventr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914480" y="417348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ght Atr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445000" y="3030480"/>
            <a:ext cx="154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ft Atr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Group 7"/>
          <p:cNvGrpSpPr/>
          <p:nvPr/>
        </p:nvGrpSpPr>
        <p:grpSpPr>
          <a:xfrm>
            <a:off x="466560" y="1544760"/>
            <a:ext cx="7499520" cy="4494240"/>
            <a:chOff x="466560" y="1544760"/>
            <a:chExt cx="7499520" cy="4494240"/>
          </a:xfrm>
        </p:grpSpPr>
        <p:sp>
          <p:nvSpPr>
            <p:cNvPr id="215" name="Text Box 8"/>
            <p:cNvSpPr/>
            <p:nvPr/>
          </p:nvSpPr>
          <p:spPr>
            <a:xfrm>
              <a:off x="774720" y="5214960"/>
              <a:ext cx="2266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Vein that brings oxygen-poor blood from the lower part of the body to the righ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Text Box 9"/>
            <p:cNvSpPr/>
            <p:nvPr/>
          </p:nvSpPr>
          <p:spPr>
            <a:xfrm>
              <a:off x="466560" y="4325760"/>
              <a:ext cx="236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ricuspid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right atrium after it has entered the right ventr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Text Box 10"/>
            <p:cNvSpPr/>
            <p:nvPr/>
          </p:nvSpPr>
          <p:spPr>
            <a:xfrm>
              <a:off x="685800" y="3220920"/>
              <a:ext cx="227952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right ventricle after it has entered the pulmonary art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Text Box 11"/>
            <p:cNvSpPr/>
            <p:nvPr/>
          </p:nvSpPr>
          <p:spPr>
            <a:xfrm>
              <a:off x="492120" y="2471760"/>
              <a:ext cx="2508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Vei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 oxygen-rich blood from each of the lungs to the lef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Text Box 12"/>
            <p:cNvSpPr/>
            <p:nvPr/>
          </p:nvSpPr>
          <p:spPr>
            <a:xfrm>
              <a:off x="542880" y="1646280"/>
              <a:ext cx="3549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arge vein that brings oxygen-poor blood from the upper part of the body to the right atriu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Text Box 13"/>
            <p:cNvSpPr/>
            <p:nvPr/>
          </p:nvSpPr>
          <p:spPr>
            <a:xfrm>
              <a:off x="4124160" y="1544760"/>
              <a:ext cx="2737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s oxygen-rich blood from the left ventricle to the rest of the bod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Text Box 14"/>
            <p:cNvSpPr/>
            <p:nvPr/>
          </p:nvSpPr>
          <p:spPr>
            <a:xfrm>
              <a:off x="5051520" y="2357280"/>
              <a:ext cx="1860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ulmonary Arteri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ring oxygen-poor blood to the lun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Text Box 15"/>
            <p:cNvSpPr/>
            <p:nvPr/>
          </p:nvSpPr>
          <p:spPr>
            <a:xfrm>
              <a:off x="5407200" y="3348000"/>
              <a:ext cx="220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ortic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left ventricle after it has entered the 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6"/>
            <p:cNvSpPr/>
            <p:nvPr/>
          </p:nvSpPr>
          <p:spPr>
            <a:xfrm>
              <a:off x="5483160" y="4211640"/>
              <a:ext cx="2482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itral Valv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revents blood from flowing back into the left atrium after it has entered the left ventric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Text Box 17"/>
          <p:cNvSpPr/>
          <p:nvPr/>
        </p:nvSpPr>
        <p:spPr>
          <a:xfrm>
            <a:off x="5432400" y="5024520"/>
            <a:ext cx="170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eft Ventr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5533920" y="540540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pt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ucture of Heart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 chamb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upper (Atri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thin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ss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wo lower (Ventricl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lls thic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mus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ore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" name="Picture 10" descr="j0335880"/>
          <p:cNvPicPr/>
          <p:nvPr/>
        </p:nvPicPr>
        <p:blipFill>
          <a:blip r:embed="rId1"/>
          <a:stretch/>
        </p:blipFill>
        <p:spPr>
          <a:xfrm>
            <a:off x="5041800" y="2374920"/>
            <a:ext cx="3340080" cy="34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eart2"/>
          <p:cNvPicPr/>
          <p:nvPr/>
        </p:nvPicPr>
        <p:blipFill>
          <a:blip r:embed="rId1"/>
          <a:stretch/>
        </p:blipFill>
        <p:spPr>
          <a:xfrm>
            <a:off x="2763720" y="152280"/>
            <a:ext cx="4343400" cy="662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Flow Through the Hea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©COPY 1997 Heart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Picture 5" descr="theheartwhole"/>
          <p:cNvPicPr/>
          <p:nvPr/>
        </p:nvPicPr>
        <p:blipFill>
          <a:blip r:embed="rId1"/>
          <a:stretch/>
        </p:blipFill>
        <p:spPr>
          <a:xfrm>
            <a:off x="1295280" y="2008080"/>
            <a:ext cx="6696360" cy="439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s Path Through the Hea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Atria fill at sam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t atrium receives oxygen POOR blood from body from vena c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atrium receives oxygen RICH blood from lungs through four pulmonary v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filled with blood atria contract, pushing blood into ventri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mo the Magnific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ne 6 – The Capilla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th ventricles contrac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ight ventricle contracts and pushes oxygen-poor blood toward lungs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inst gravity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pulmonary 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ventricle contracts and forces oxygen rich blo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heart throug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orta (largest vess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loods Path Through the Heart (cont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mo the Magnific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43828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ene 7 – Gatekeep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ntrol of the Hear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Nervous System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ulla oblongata regulates r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sory cells stretch when too fa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drops when beat is too l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artbeat Regul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ce of blood from left ventricle into arteries (puls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cemaker (SA Node), group of cells at top of right atr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ical impulse, signals BOTH atria to contr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iggers 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et of cells (AV Node)-base of the right atrium to send message to ventricles, they contr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kG – record of electrical changes in the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bio_ch37_6152"/>
          <p:cNvPicPr/>
          <p:nvPr/>
        </p:nvPicPr>
        <p:blipFill>
          <a:blip r:embed="rId1"/>
          <a:stretch/>
        </p:blipFill>
        <p:spPr>
          <a:xfrm>
            <a:off x="685800" y="1295280"/>
            <a:ext cx="8373960" cy="51055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-76320" y="2743200"/>
            <a:ext cx="9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oatrial (SA) n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-57240" y="41911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rioventricular (AV) n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803760" y="3267000"/>
            <a:ext cx="1073160" cy="459000"/>
          </a:xfrm>
          <a:prstGeom prst="rect">
            <a:avLst/>
          </a:prstGeom>
          <a:noFill/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ing fi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990720" y="838080"/>
            <a:ext cx="28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ion of At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5867280" y="914400"/>
            <a:ext cx="286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ion of Ventr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inoatrial N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eart1"/>
          <p:cNvPicPr/>
          <p:nvPr/>
        </p:nvPicPr>
        <p:blipFill>
          <a:blip r:embed="rId1"/>
          <a:stretch/>
        </p:blipFill>
        <p:spPr>
          <a:xfrm>
            <a:off x="1828800" y="380880"/>
            <a:ext cx="5867280" cy="6324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Pressu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against the blood vessel’s wal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ystolic pressure refers 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sure recorded while the ventricles pump the bl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astolic pressure refers 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sure recorded as the ventricles fill with bloo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normal blood pressure is 120/8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HEROSCLER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ty deposits called pla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s up in walls of 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ructs fl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so a risk if clot breaks free and blocks flow elsew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yper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blood pres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s works harder than necess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s risk of heart attack or str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irculatory System Consists of…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352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d Vesse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oo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Hear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j0236214"/>
          <p:cNvPicPr/>
          <p:nvPr/>
        </p:nvPicPr>
        <p:blipFill>
          <a:blip r:embed="rId1"/>
          <a:stretch/>
        </p:blipFill>
        <p:spPr>
          <a:xfrm>
            <a:off x="2971800" y="2590920"/>
            <a:ext cx="1981080" cy="1865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j0286850"/>
          <p:cNvPicPr/>
          <p:nvPr/>
        </p:nvPicPr>
        <p:blipFill>
          <a:blip r:embed="rId2"/>
          <a:stretch/>
        </p:blipFill>
        <p:spPr>
          <a:xfrm>
            <a:off x="5715000" y="1066680"/>
            <a:ext cx="2633760" cy="247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 Att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herosclerosis in coronary art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rt muscle begins to d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mp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us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hortness of breat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re chest p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MEDIATE MEDICAL ATTENTION NECESSA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orders (cont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od clot gets stuck in blood vessels leading to br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in cells die due to lack of oxy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 blood vessel bur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lead to paralysis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s of ability to spe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urrent PREVENTION Recommendatio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ular exer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ll balanced d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smo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et low in saturated f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6" name="Picture 4" descr="j0289001"/>
          <p:cNvPicPr/>
          <p:nvPr/>
        </p:nvPicPr>
        <p:blipFill>
          <a:blip r:embed="rId1"/>
          <a:stretch/>
        </p:blipFill>
        <p:spPr>
          <a:xfrm>
            <a:off x="5923080" y="1981080"/>
            <a:ext cx="2611440" cy="35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abo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320" y="23623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ood Typing:  To Clump or Not to Clump?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ive loss of blood requires a transf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 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herited from your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ood Ty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2" name="Picture 3" descr="b_bloodtypes_01"/>
          <p:cNvPicPr/>
          <p:nvPr/>
        </p:nvPicPr>
        <p:blipFill>
          <a:blip r:embed="rId1"/>
          <a:stretch/>
        </p:blipFill>
        <p:spPr>
          <a:xfrm>
            <a:off x="2362320" y="2097000"/>
            <a:ext cx="4800600" cy="438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happens when you mix blood types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sma contains proteins that correspond to the shape of the different antige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f you mix one type with the wrong one, you get CLUMPIN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 is the universal don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AB is the universal accep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Makes Our Blood Typ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6" name="Picture 3" descr="ABObloodsystem"/>
          <p:cNvPicPr/>
          <p:nvPr/>
        </p:nvPicPr>
        <p:blipFill>
          <a:blip r:embed="rId1"/>
          <a:stretch/>
        </p:blipFill>
        <p:spPr>
          <a:xfrm>
            <a:off x="1066680" y="1647720"/>
            <a:ext cx="7239240" cy="421956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4"/>
          <p:cNvSpPr/>
          <p:nvPr/>
        </p:nvSpPr>
        <p:spPr>
          <a:xfrm>
            <a:off x="914400" y="4038480"/>
            <a:ext cx="7543800" cy="1828800"/>
          </a:xfrm>
          <a:prstGeom prst="rect">
            <a:avLst/>
          </a:prstGeom>
          <a:solidFill>
            <a:srgbClr val="7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bio_ch37_6177"/>
          <p:cNvPicPr/>
          <p:nvPr/>
        </p:nvPicPr>
        <p:blipFill>
          <a:blip r:embed="rId1"/>
          <a:stretch/>
        </p:blipFill>
        <p:spPr>
          <a:xfrm>
            <a:off x="1219320" y="1828800"/>
            <a:ext cx="7018200" cy="344016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279" name="Text Box 3"/>
          <p:cNvSpPr/>
          <p:nvPr/>
        </p:nvSpPr>
        <p:spPr>
          <a:xfrm>
            <a:off x="1546200" y="19414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od Type of Don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2079720" y="2881440"/>
            <a:ext cx="679320" cy="1915920"/>
          </a:xfrm>
          <a:prstGeom prst="rect">
            <a:avLst/>
          </a:prstGeom>
          <a:noFill/>
          <a:ln w="9360">
            <a:solidFill>
              <a:srgbClr val="72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4289400" y="1903320"/>
            <a:ext cx="34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ood Type of Recip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807000" y="2360520"/>
            <a:ext cx="40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               B               AB            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898640" y="495792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000"/>
                </a:solidFill>
                <a:latin typeface="Arial"/>
              </a:rPr>
              <a:t>Unsuccessful trans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5762520" y="4976640"/>
            <a:ext cx="31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000"/>
                </a:solidFill>
                <a:latin typeface="Arial"/>
              </a:rPr>
              <a:t>Successful transf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0000"/>
                </a:solidFill>
                <a:latin typeface="Arial Black"/>
              </a:rPr>
              <a:t>Blood Transf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h Fact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hesus factor (Rh), also inheri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have anti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NO antig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cause complications in pregnan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ther 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by 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:  blood mixes with mother; mother’s body makes anti-R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ti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h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ody attacks ba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have medicine to prevent antibody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rculatory Syste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OOD VESSE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wo Pathway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lmonary 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blood to lungs and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ystemic Circ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ries blood to body and 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bio_ch37_4072"/>
          <p:cNvPicPr/>
          <p:nvPr/>
        </p:nvPicPr>
        <p:blipFill>
          <a:blip r:embed="rId1"/>
          <a:stretch/>
        </p:blipFill>
        <p:spPr>
          <a:xfrm>
            <a:off x="2311560" y="263520"/>
            <a:ext cx="4493880" cy="602604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1219320" y="152280"/>
            <a:ext cx="6247440" cy="6105240"/>
            <a:chOff x="1219320" y="152280"/>
            <a:chExt cx="6247440" cy="6105240"/>
          </a:xfrm>
        </p:grpSpPr>
        <p:sp>
          <p:nvSpPr>
            <p:cNvPr id="115" name="Text Box 6"/>
            <p:cNvSpPr/>
            <p:nvPr/>
          </p:nvSpPr>
          <p:spPr>
            <a:xfrm>
              <a:off x="1333440" y="152280"/>
              <a:ext cx="213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head and arm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5327280" y="5798520"/>
              <a:ext cx="213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abdominal organs and leg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8"/>
            <p:cNvSpPr/>
            <p:nvPr/>
          </p:nvSpPr>
          <p:spPr>
            <a:xfrm>
              <a:off x="2036880" y="4431600"/>
              <a:ext cx="139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2455200" y="3436920"/>
              <a:ext cx="153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vei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1219320" y="3738960"/>
              <a:ext cx="168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right l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1675800" y="1288800"/>
              <a:ext cx="147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perior vena ca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4015080" y="1395000"/>
              <a:ext cx="1055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or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5232600" y="1306440"/>
              <a:ext cx="156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lmonary arte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Text Box 14"/>
            <p:cNvSpPr/>
            <p:nvPr/>
          </p:nvSpPr>
          <p:spPr>
            <a:xfrm>
              <a:off x="5802840" y="3721320"/>
              <a:ext cx="145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llaries of left lung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Your Blood Vessels: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athway of Circul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 types of vess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lla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i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01:09:10Z</dcterms:created>
  <dc:creator>TEA</dc:creator>
  <dc:description/>
  <dc:language>en-US</dc:language>
  <cp:lastModifiedBy>jh</cp:lastModifiedBy>
  <dcterms:modified xsi:type="dcterms:W3CDTF">2010-09-25T19:38:33Z</dcterms:modified>
  <cp:revision>17</cp:revision>
  <dc:subject/>
  <dc:title>Circulatory System</dc:title>
</cp:coreProperties>
</file>